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746F-74A6-481B-B469-EA6F455D5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8AE4-8D61-4A8C-8FA8-DAE12BCD3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3F42-CA59-4B1D-89BA-18BD99DD2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1BB4-2EF7-47FD-B923-4D05D9269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2811-69F5-4B00-94CB-15A1A0976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28B7-DAB1-4D55-AD62-26764AC52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DDBA-57E0-41B0-AC2B-ADB53D9E4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9551-49C7-4129-A46C-4C309DEFA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3A2A-A7B2-4746-9F57-9A38728C5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89E0-94D6-444F-86BC-7A1D723C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C996-3D04-4F88-8563-E48BC3A0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7889-11CA-4894-9040-0BDFEFDA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C7778-00E2-48C6-B30D-912F48C946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0" y="-8280"/>
            <a:ext cx="8858160" cy="79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российский конкурс профессионального мастерства педагогов «Мой лучший сценарий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ИКЯН Р.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БУ СОШ № 87 г.  Со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.С.В.Чакря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1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Users\admin\Downloads\hello_html_m55ff412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https://vishivashka.ru/wp-content/uploads/ladoshek-1-800x55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6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3" descr="C:\Users\admin\Desktop\конкурс беларусь\флаг россии.jpg"/>
          <p:cNvPicPr/>
          <p:nvPr/>
        </p:nvPicPr>
        <p:blipFill>
          <a:blip r:embed="rId1"/>
          <a:stretch/>
        </p:blipFill>
        <p:spPr>
          <a:xfrm>
            <a:off x="0" y="0"/>
            <a:ext cx="8661240" cy="5857920"/>
          </a:xfrm>
          <a:prstGeom prst="rect">
            <a:avLst/>
          </a:prstGeom>
          <a:ln w="0">
            <a:noFill/>
          </a:ln>
        </p:spPr>
      </p:pic>
      <p:sp>
        <p:nvSpPr>
          <p:cNvPr id="43" name="TextBox 2"/>
          <p:cNvSpPr/>
          <p:nvPr/>
        </p:nvSpPr>
        <p:spPr>
          <a:xfrm>
            <a:off x="2220840" y="4857840"/>
            <a:ext cx="295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ФЛАГ РОСС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C:\Users\admin\Desktop\конкурс беларусь\флаг белар.png"/>
          <p:cNvPicPr/>
          <p:nvPr/>
        </p:nvPicPr>
        <p:blipFill>
          <a:blip r:embed="rId1"/>
          <a:stretch/>
        </p:blipFill>
        <p:spPr>
          <a:xfrm>
            <a:off x="0" y="0"/>
            <a:ext cx="9144000" cy="453384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1790640" y="5429160"/>
            <a:ext cx="44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          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ФЛАГ БЕЛАРУ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4" descr="C:\Users\admin\Desktop\конкурс беларусь\герб россии.gif"/>
          <p:cNvPicPr/>
          <p:nvPr/>
        </p:nvPicPr>
        <p:blipFill>
          <a:blip r:embed="rId1"/>
          <a:stretch/>
        </p:blipFill>
        <p:spPr>
          <a:xfrm>
            <a:off x="0" y="0"/>
            <a:ext cx="5357880" cy="6823080"/>
          </a:xfrm>
          <a:prstGeom prst="rect">
            <a:avLst/>
          </a:prstGeom>
          <a:ln w="0">
            <a:noFill/>
          </a:ln>
        </p:spPr>
      </p:pic>
      <p:sp>
        <p:nvSpPr>
          <p:cNvPr id="47" name="TextBox 2"/>
          <p:cNvSpPr/>
          <p:nvPr/>
        </p:nvSpPr>
        <p:spPr>
          <a:xfrm>
            <a:off x="6304320" y="1643040"/>
            <a:ext cx="2137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Calibri"/>
              </a:rPr>
              <a:t>ГЕР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Calibri"/>
              </a:rPr>
              <a:t>РОСС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2" descr="C:\Users\admin\Desktop\конкурс беларусь\герб бел.jpg"/>
          <p:cNvPicPr/>
          <p:nvPr/>
        </p:nvPicPr>
        <p:blipFill>
          <a:blip r:embed="rId1"/>
          <a:stretch/>
        </p:blipFill>
        <p:spPr>
          <a:xfrm>
            <a:off x="0" y="0"/>
            <a:ext cx="6643800" cy="655020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>
            <a:off x="6500880" y="1857240"/>
            <a:ext cx="343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ГЕРБ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БЕЛАРУС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5" descr="C:\Users\admin\Desktop\конкурс беларусь\русск костюм.jpg"/>
          <p:cNvPicPr/>
          <p:nvPr/>
        </p:nvPicPr>
        <p:blipFill>
          <a:blip r:embed="rId1"/>
          <a:stretch/>
        </p:blipFill>
        <p:spPr>
          <a:xfrm>
            <a:off x="0" y="0"/>
            <a:ext cx="4786200" cy="450072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285840" y="5357880"/>
            <a:ext cx="761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НАЦИОНАЛЬНЫЙ КОСТЮМ РОССИЯ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https://kibet-shop.ru/upload/iblock/b3b/russkiy_narodnyy_kostyum_vasilka_ksy_1018755.jpg"/>
          <p:cNvPicPr/>
          <p:nvPr/>
        </p:nvPicPr>
        <p:blipFill>
          <a:blip r:embed="rId2"/>
          <a:stretch/>
        </p:blipFill>
        <p:spPr>
          <a:xfrm>
            <a:off x="3214800" y="0"/>
            <a:ext cx="3335400" cy="5002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https://avatars.mds.yandex.net/get-marketpic/217087/market_JD-3LM_4oQPcf18EWEYYXA/orig"/>
          <p:cNvPicPr/>
          <p:nvPr/>
        </p:nvPicPr>
        <p:blipFill>
          <a:blip r:embed="rId3"/>
          <a:stretch/>
        </p:blipFill>
        <p:spPr>
          <a:xfrm>
            <a:off x="5786280" y="500040"/>
            <a:ext cx="3143520" cy="56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6" descr="C:\Users\admin\Desktop\конкурс беларусь\беларус костюм.jpg"/>
          <p:cNvPicPr/>
          <p:nvPr/>
        </p:nvPicPr>
        <p:blipFill>
          <a:blip r:embed="rId1"/>
          <a:stretch/>
        </p:blipFill>
        <p:spPr>
          <a:xfrm>
            <a:off x="0" y="0"/>
            <a:ext cx="4929120" cy="6576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http://www.horovod-shop.ru/files/catalog/545/gallery/big/kostyum-belorusskij-mod-2_1479390340.jpg"/>
          <p:cNvPicPr/>
          <p:nvPr/>
        </p:nvPicPr>
        <p:blipFill>
          <a:blip r:embed="rId2"/>
          <a:stretch/>
        </p:blipFill>
        <p:spPr>
          <a:xfrm>
            <a:off x="4286160" y="0"/>
            <a:ext cx="4857840" cy="5857920"/>
          </a:xfrm>
          <a:prstGeom prst="rect">
            <a:avLst/>
          </a:prstGeom>
          <a:ln w="0">
            <a:noFill/>
          </a:ln>
        </p:spPr>
      </p:pic>
      <p:sp>
        <p:nvSpPr>
          <p:cNvPr id="56" name="TextBox 3"/>
          <p:cNvSpPr/>
          <p:nvPr/>
        </p:nvSpPr>
        <p:spPr>
          <a:xfrm>
            <a:off x="4643280" y="6215040"/>
            <a:ext cx="48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НАЦИОНАЛЬНЫЙ КОСТЮМ БЕЛАРУ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s://i.artfile.me/wallpaper/01-03-2010/1920x1080/eda-pelmeni-manty-vareniki-pomidory-toma-344465.jpg"/>
          <p:cNvPicPr/>
          <p:nvPr/>
        </p:nvPicPr>
        <p:blipFill>
          <a:blip r:embed="rId1"/>
          <a:stretch/>
        </p:blipFill>
        <p:spPr>
          <a:xfrm>
            <a:off x="857160" y="285840"/>
            <a:ext cx="7286760" cy="3865320"/>
          </a:xfrm>
          <a:prstGeom prst="rect">
            <a:avLst/>
          </a:prstGeom>
          <a:ln w="0">
            <a:noFill/>
          </a:ln>
        </p:spPr>
      </p:pic>
      <p:sp>
        <p:nvSpPr>
          <p:cNvPr id="58" name="TextBox 2"/>
          <p:cNvSpPr/>
          <p:nvPr/>
        </p:nvSpPr>
        <p:spPr>
          <a:xfrm>
            <a:off x="3012840" y="4857840"/>
            <a:ext cx="429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РУССКИЕ ПЕЛЬМЕ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rerecept.ru/wp-content/uploads/2018/06/recept-pelmeney-po-belorussky-1024x819.jpg"/>
          <p:cNvPicPr/>
          <p:nvPr/>
        </p:nvPicPr>
        <p:blipFill>
          <a:blip r:embed="rId1"/>
          <a:stretch/>
        </p:blipFill>
        <p:spPr>
          <a:xfrm>
            <a:off x="1214280" y="41400"/>
            <a:ext cx="6715440" cy="537192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2872440" y="6000840"/>
            <a:ext cx="455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БЕЛАРУСКИЕ ПЕЛЬМ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27T11:29:16Z</dcterms:created>
  <dc:creator>admin</dc:creator>
  <dc:description/>
  <dc:language>en-US</dc:language>
  <cp:lastModifiedBy>admin</cp:lastModifiedBy>
  <dcterms:modified xsi:type="dcterms:W3CDTF">2021-02-03T18:05:41Z</dcterms:modified>
  <cp:revision>12</cp:revision>
  <dc:subject/>
  <dc:title>Слайд 1</dc:title>
</cp:coreProperties>
</file>